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E3CA-82C7-4EBD-B845-74EF45AC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A90-0ED1-4C2F-B330-64307851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620-E300-4BE9-8898-BD389B14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41E9-4AEF-4315-BC51-D5AAAC94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1A1-DB10-4C8D-A1C6-EEACD5A6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AD7-2D75-426C-89BF-42811464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52D-482C-43EC-87D3-0238EDC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4668F-82FD-4467-94B3-19497718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E7C29-3E6F-4E8E-9EE8-0857F3A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303D5-934F-406F-BC7E-6A323724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80C50-4697-4D4C-B5E2-3E812A7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410A6-D1FE-42AA-B618-731C4E7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D9216-1794-4226-A3ED-6C3C402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2FDE1-B915-41F9-8025-CCE43E06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F808C-72AD-4F41-8BBD-601C26B9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8DEB8-AB91-4FD9-A47C-0A12145E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02C6D-14C4-4804-B7EF-F3BAF37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C17-F180-4477-9173-7B1BB56D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B8D74-C72F-45CE-9C2E-AF7630C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31D00-B099-4BCD-BE8E-7700039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217C9-51BE-4545-A271-58869ACA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06E58-983E-48CC-8F96-A1999321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388B6-889C-4C49-A2F7-9967FC57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98EA2-5442-4937-AC34-CD2423C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1B515-0B2E-47EC-AE5B-AD0D7CC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A79CC-7781-4C14-BCC1-99742D42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5139D-DEA1-4542-8E71-24CA830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83E1A-1728-4971-A387-C5C5B941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3D7-08D3-4143-A8FF-0CCCB7CA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2AB50-3F59-43FC-A399-3197FFBE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BA63F-6C90-4FE1-AA5B-A286749C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CC397-0C63-43E5-A2E5-2F0B53F2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A4F43-36CB-4E0C-930D-82ED0E9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05CB4-01EF-4B6A-8A47-7C0785E8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74CC6-0B39-49C2-B9C3-C77EB330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2B5E7-EF5A-4953-A641-6DBC9451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4AA69-8A06-4FFA-96C4-26B0260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055D0-5174-4FCB-BFD2-5CFD89B3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08013-6897-4A51-8457-E302D23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8444-8368-4A92-B057-81A0AC60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8AFF0-ADEA-43D6-AA5A-7BF75862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8612B-A40B-4859-B6AF-77852985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B3CBC-6D8A-4B61-B047-7898F8F1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C436-2794-45C3-AE9C-7958B929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7023E-4B95-481A-B659-AC86DAB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3FDB-C94C-43EA-A2D4-9C2DF50B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CFCD1-FE03-4B57-9FA0-F5ABC5E5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15056-D8B5-45A7-BAE7-B13EAE97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C755A-D4B0-4463-BF49-AE07702C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96F63-1C3C-4A0D-B420-977477B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D88-8079-4846-B714-3B8A09AB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D6EA1-2A76-48D7-8B14-9EFF0BC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29E69-DF94-4310-928B-0676253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B2EB5-1D7D-4789-9F97-40A2369D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E9354-99A9-4F18-A7FD-B09346B9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A5AEA-0BE8-4B64-8440-C6A2DF94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51B6B-8D67-44EF-B735-EA0AF731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06A12-9E87-4A37-A403-941A465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38F60-D758-43B2-9089-5109F997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C6500-7941-46C2-B056-3B8D49F2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0E041-AF1B-4208-B5CA-E2244C6D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288-9BD9-4E7F-BDF6-B98A8F78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AD7E8-0FE3-4514-BD1D-EA1D3CB6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26A7A-104B-4E96-A056-532CA57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69D4A-EAB8-4679-A9DD-F76BA2F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9C9C9-081C-46B8-9E1B-253A645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A5DF0-EDD5-49E2-93FE-1922B66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9C420-9ABB-4A6A-9715-B40CC4E5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FC6EE-9388-40A1-91A4-76A888B8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87F83-6E88-4192-9473-2E6E552B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448AE-907C-4532-9C76-73B94793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50633-1F3E-46F2-AA25-A9632CFA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4A8-F566-4483-8F0A-861B595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76AF3-80F8-4EE6-B921-8FCC881B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5C17C-1A2E-4D95-8D2F-B24B7DFC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D477E-F11D-4A5B-ADF3-5B0AB3A7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194C5-1DFF-4EEA-9418-D366EF3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8F3BF-A8AE-46FA-B61B-49ED8664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8FF68-9CB4-40E8-B771-77CCB5B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F47C3-D99B-4326-A7A6-20BAD03A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53191-D570-4ECE-B9A0-AE7B11DB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9EE82-C0C2-4434-A7F8-D0BE8DA3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1BCE0-7C35-4A27-BB9D-9E748A6F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E189-6C92-45FC-8ECD-79AC1A41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634DD-175E-402F-800A-9A3C4DB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79945-9563-426E-B703-273F956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03EEA-E9B0-4877-A5CC-1C9F32B8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00E96-65EC-4407-9C09-0B1130ED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E3F24-F5C6-455E-9B89-AEEDB830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2764F-EEF9-4D20-A057-1034D4C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57BDA-16E6-4381-ADAE-F4C6F16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386A6-7437-433E-8B9B-F1913FB2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2AE9F-7A11-4EFE-89AA-78BAFC3E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E6B17-807D-440E-8AF1-413A3506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31CA-AABC-4E18-9E38-4CA71B94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1B0AA-03C4-4DF9-B607-D6025991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36B29-C08C-44B0-A130-D3F304C3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638EC-A8B3-481E-91C4-967F5176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54A94-F3DC-4991-B141-007B338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AAC71-0E48-46BF-8B84-5A44919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27195-E7AE-4271-9CA7-EDADB51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A0EC5-8F98-4A03-AB90-A7B2C4F9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92D59-2C53-43CE-877D-93D2BCE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20A98-EA10-43F4-803D-FE8D730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BBB98-4B1C-46F5-B559-7504190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F06E-5598-40B4-9FB3-6DB1959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98119-4746-4285-BF2D-C29DF6A0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2E15F-4609-4266-BB3C-6159999F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811E5-C4A9-4018-A9FA-68A81238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62678-B3CF-4D2A-ACA1-2129B2A7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4A079-86D5-41FB-8613-FB39B51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2A95C-0299-4136-991F-1515D39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18CAE-1DC3-4D2F-B40E-3A4C83E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12585-F999-45BE-900E-FDA65EAD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D2F89-B97A-462D-AB02-CADC73DB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33287-E7C8-4DBE-BCFD-FFFC3BC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395-3875-495C-BE06-C3AF962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AB85-EF6E-4953-A2F1-A5880EEE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E63F5-FCDF-4F72-A582-784732D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871E1-4D2E-427F-A840-391FECC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03730-3C31-4FF6-8362-BDFC16B3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2FD16-E5BF-41B9-B5CF-B7758CF1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2CE42-1929-4B7E-A935-7F6182A2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D2B08-5472-47E6-B87A-5C01B0C0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91683-9B68-4F3E-82EB-5145892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92FC3-BC41-47E8-9DDD-CED54D7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A6FBBF-BDD2-4356-BE1F-12C48D22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C1755-2E47-428E-98C2-F10F3E55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7C8-C316-481D-9152-51D2902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9FAC5-1112-42B4-B07B-2755E6F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4D6A1-33D5-4A3F-B3A9-4608AAD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A0104-5198-438F-A0EC-34A1B90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E3072-BD71-4FA4-8161-E7E0051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917A0-9F72-4CAE-9F85-5AB98A5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906D7-4A92-4DF8-BA17-8B21CC79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30C70-9BF2-478F-8137-6145D02F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3689-E91C-4DC2-BABC-B9088607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F6E0-1C58-4ED9-87C3-596DAE5D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F51-31B5-456A-9AA8-59DC31E7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6F322C-189C-4810-9299-B54B24E8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050F379-A309-4F8E-B938-A6C60B11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2D61C0-9050-4B67-8A4D-C2FDD6FC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E75447-FA5B-46EB-A64B-794542E3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0CBBA32-3ED4-47F6-B349-E77BB09B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B6130AB-1098-4460-A91A-5FA95CD5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B6F583-14EA-437A-8614-698A657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31403E7-912A-4044-8132-1599F0C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30290C-7F47-4B77-B876-DF62AFFE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2FE7-6832-4B4D-BC3C-5BD4D192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B70AA4-429C-4072-AA81-1A34E772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0C0BBA-58FC-4E9C-843E-B02BF232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3A5CF7-DD50-4B87-9E4A-E8D0F073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AF83A7C-A046-435A-A7B2-4EE61BC5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362C76-C6D4-4BA0-A609-4D47AA3F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D936EA-03E0-4B77-B364-7505DD0A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5FBB76-3396-48BF-BC9F-11A76C6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8C3192-ADDF-427F-A5B0-8BC2EFC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805BD6-AEAC-4DE2-B33E-777B66F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1DFAC7-440C-46E4-9EC4-4E92517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80E0-7D2E-4F13-A6BD-9C323D6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1D5BD53-890B-4FE8-ABDD-FD6B015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19ED19-4C76-4D35-8891-2B9D66A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DE6645-3CB7-4380-A978-0FFBB41E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B8328F-8CAB-4F74-B716-6D648A38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6180DE-06C8-4BA1-9E77-4A8B948E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ADE0CA-7A77-4188-8550-83DA6443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24AD3F-BE0C-452C-9D6F-AE745376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525688-CE2D-4CCC-8559-23F215D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898AD7-B130-402B-9476-165E7C4D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2512B15-D9AA-4C5E-9AD1-E8AC6C5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DEBC-3EFF-4532-A38D-E39BB2A4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A4FA8F-CC9B-4803-8E34-D1224D10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4646BFB-A2E2-4D38-A32E-FCB2AB0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343658F-DF7A-406D-9F7A-3EDACAD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423D52-1AC1-4998-A16A-F2E70C8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C41695C-75C6-42D3-8A2F-F10E5320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081D123-D70E-4CD4-BE4B-A850178E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8794B5-7CF3-4D73-81EA-AFE4ADD3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629B74-3701-4EC4-9972-81F38E24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5F0D0D1-35B8-477C-99E5-29A3018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AD206C-AC0D-446D-8D90-A68F219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105A-ECDC-4F03-A714-49CF819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847E31-A2CF-48C9-8DDA-6E1A548B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9AA124-EA64-4C38-92F7-FC28128D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DD25BD-9195-4CD4-B1EA-59F9166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34B0B5E-44B2-43B1-BB88-78450443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A3EA7D8-F310-44BC-A3D2-D93275A4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66608F6-77B2-42CC-8B50-147353C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2D858A-405F-40D4-B480-D91D267F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DF770B-F70D-4428-A49D-AE4A48DA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2AD6CC-3081-4F3A-9FDB-2CB06CB3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82CC-CA93-4EBB-8B9B-A7D0D4F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406-6D9D-49B9-B4C0-FEEC70E2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3701-78CE-40D1-99B9-B7DE1B4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41E6-1D1E-49A7-A10E-9FE5F24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D733-354A-4A50-AF4A-77484A0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B6C3-832A-4DFF-9761-83FFF6B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4A13-102D-42D3-B8A9-B2C1B640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15D4-C50F-4E80-B7AB-DAB29212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8A45-AB95-4A87-AF1D-5C5ABDCC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38FD-BA50-481F-808E-46BDC7AA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F729-12AF-4AAE-903C-FABFC65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5688-ECCE-4ED9-B13D-9F5E8027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C28-92C2-4586-87AD-50C4CBF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D7A46-F491-4B59-A582-6A10DCF3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5DA4-3093-42BB-8AD2-D7C31D92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F683-8579-4A5F-8C7A-B35BE1E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9EAA-0D10-4625-AC06-A72490D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0D51-E71B-4951-B65E-2AD57D5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2B17-E53E-4848-8083-E063A5D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3AF0-AC14-4924-8A47-D712BF98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560F-E4F4-43DB-AED3-1B7785F3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A20A-8F87-4D26-8598-0D79CB0E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AC08-7DD8-4D65-A7D3-C252652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309-75A1-4360-AD9A-25495D7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FCC5C-7055-4431-8C4A-2CE58D6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8228-2E8A-4365-AD6A-C5299A60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D9A4-7701-48FF-AD45-6044CA2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E82D9-DD2B-44C8-830C-E612745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F100-841B-4A4A-870F-4EFEBF91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9F04-5B7A-4248-A5DC-7C61B1F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4320-4CBB-415E-9099-FE363448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C5616-C535-4A0E-82EC-E4EC6E58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FA911-BB02-464D-8DF6-0D68234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85DC-E15F-467B-927A-0ADA362B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70F-46E0-48A2-8062-40BC2703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17301-E467-42F0-B7AB-2EB8D70C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E786-1628-4FC6-A0A5-43ED6937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C7F76-3020-45B0-8B69-EE13C04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6243-4BB4-4170-99C8-30F307D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75AF7-417B-4B99-BDA2-441B4D5C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F5126-927B-4E0B-B797-4DFE20AC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5849D-F305-4265-B6D2-FAF05B8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8F24D-A1C8-4CEF-8011-95944AD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54F9-9196-4C33-9F8D-FF681180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2B89-9045-4C07-AAF7-9DC06A3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225-2FAF-40D3-9380-96A9694F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F5BE-E2EF-4A93-A27C-3B234C0B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7537-5F04-476A-9B15-372B79E1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617D-C678-4F62-A335-B7FA1E0C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B126E-DDD0-44BC-A235-4EBF25D8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C9B01-4742-4296-9717-4E9F395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742FB-8A36-4DB7-B9EE-45B2434B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64F00-070F-4364-8D46-D3E008A5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ED27D-7907-43C9-BD27-D937C157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EC0D-4E9F-4740-AC4F-FDF24BC6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B53E5-7C30-4102-9E6A-8B16705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E63-6249-4CCF-84BD-F5F7118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9603D-6F93-4580-8864-DAEA3332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8D719-C375-4576-B953-2E912AF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06ED-166D-47DE-B569-EF6A2BE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D395E-266B-4AC6-AC90-9850BF55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CB3D7-0DAD-418E-BECE-C626751B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D0B0-99C7-4B57-8F40-24356438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2EF9F-7DB3-4CC7-85F3-D3F57EE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B809B-6B37-46F5-BF09-6656CBDF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386D-4A47-425D-9F9A-B0306B36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ADFB-34D2-40E8-B406-BA5153F7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8DD-40B9-4701-9D39-6DC8699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216F-2EF6-4548-8E60-E4E07B4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339A-5AC8-4198-8282-E1F9784E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73C7-A699-496D-8468-0DE3C7C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7A11A-538C-4317-A6CC-12FC371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93E7-8088-4A26-8E7E-7C9B55BF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EDCDB-FEDE-4356-B3D4-82F8C654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A9FDA-D577-446D-9F2D-1E400618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67421-FCFE-4872-BF31-A1E92791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A7EF1-378C-429A-9629-AB0E44D2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E1463-1490-4915-A65A-7FF6A22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C920-E967-4872-9856-77F7A3BCF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FF8-FBEA-4693-9B39-1A1248FAC0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99F-4DFA-43E0-8E08-F76EC31559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538-7C5B-43AA-BCE6-8F92A1EB1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7E9-0A02-4AE5-8BB2-B52494EB3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575-D0A3-4A38-B8B9-AF1DD52B2F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7EC3-E16D-4C39-B051-9AA8A1C2C6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7752-680F-451F-ABD3-D8959E49A1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CBB-68DA-48B8-AC73-4D008FF14C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CF3C-CB65-4407-A5B1-E53291535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E86-AE48-43F2-9C70-CE5BC385E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94AA-4AC8-4CDF-BEB3-50506A402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56B8-7D47-4B22-A13F-3D35064D79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F549-E4F5-4C71-AD66-82BD11D9C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2F42-8814-44FB-B188-D80B16217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3BB8-426F-4F9C-B047-671B03B4A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ADE8-6D56-41AE-84F5-708A6DCEA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EF0-134B-4A9E-A985-34703ABFEB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50B7-6449-4955-AE55-CBA964F866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7134-02FD-45EF-9E41-8AB1A582D6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0BB0-71CB-4BD0-8F05-2B01D12039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0C1C-6F4E-4B4E-AA01-D83A6C4C5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4C3-731D-4769-8952-342A0D637BD6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pplic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YOB is a leading international provider of business management solu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5" descr="Myob1.png"/>
          <p:cNvPicPr/>
          <p:nvPr/>
        </p:nvPicPr>
        <p:blipFill>
          <a:blip r:embed="rId1"/>
          <a:stretch/>
        </p:blipFill>
        <p:spPr>
          <a:xfrm>
            <a:off x="6143760" y="128592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6" descr="Myob2.png"/>
          <p:cNvPicPr/>
          <p:nvPr/>
        </p:nvPicPr>
        <p:blipFill>
          <a:blip r:embed="rId2"/>
          <a:stretch/>
        </p:blipFill>
        <p:spPr>
          <a:xfrm>
            <a:off x="785880" y="3786120"/>
            <a:ext cx="7072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tilit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pecific fiel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5440" y="68544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sists of the </a:t>
            </a:r>
            <a:r>
              <a:rPr b="0" lang="en-US" sz="3600" spc="-1" strike="noStrike">
                <a:solidFill>
                  <a:srgbClr val="248aea"/>
                </a:solidFill>
                <a:latin typeface="Calibri"/>
              </a:rPr>
              <a:t>bu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sell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600" spc="-1" strike="noStrike">
                <a:solidFill>
                  <a:srgbClr val="e03133"/>
                </a:solidFill>
                <a:latin typeface="Calibri"/>
              </a:rPr>
              <a:t>produc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5f0eaa"/>
                </a:solidFill>
                <a:latin typeface="Calibri"/>
              </a:rPr>
              <a:t>service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ver </a:t>
            </a: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electronic systems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ch as the Internet and other computer networks (en.Wikipedia.org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AutoShape 2"/>
          <p:cNvSpPr/>
          <p:nvPr/>
        </p:nvSpPr>
        <p:spPr>
          <a:xfrm>
            <a:off x="457200" y="2057400"/>
            <a:ext cx="830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What is E-comme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funds transfer (EFT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Supply chain management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ternet Market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Online transaction process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data interchange (EDI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ventory management systems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Automated data collection syste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8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4" descr="Errores-comunes-del-SEO-B2B.jpg"/>
          <p:cNvPicPr/>
          <p:nvPr/>
        </p:nvPicPr>
        <p:blipFill>
          <a:blip r:embed="rId1"/>
          <a:stretch/>
        </p:blipFill>
        <p:spPr>
          <a:xfrm>
            <a:off x="4495680" y="3124080"/>
            <a:ext cx="3841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ecific fiel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1" name="Content Placeholder 2" descr=""/>
          <p:cNvPicPr/>
          <p:nvPr/>
        </p:nvPicPr>
        <p:blipFill>
          <a:blip r:embed="rId1"/>
          <a:stretch/>
        </p:blipFill>
        <p:spPr>
          <a:xfrm>
            <a:off x="401760" y="2724120"/>
            <a:ext cx="8327880" cy="353052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6" descr="diagram_supplychain.jpg"/>
          <p:cNvPicPr/>
          <p:nvPr/>
        </p:nvPicPr>
        <p:blipFill>
          <a:blip r:embed="rId2"/>
          <a:stretch/>
        </p:blipFill>
        <p:spPr>
          <a:xfrm>
            <a:off x="4038480" y="2743200"/>
            <a:ext cx="4114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onsu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Calibri"/>
              </a:rPr>
              <a:t>FUTURE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15440" y="2755440"/>
            <a:ext cx="8309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E-commerce’, http://en.wikipedia.org/wiki/E-commerce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Internet’, http://en.wikipedia.org/wiki/Internet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ltimosoft – Supply chain’, http://www.ultimosoft.com/industry/supplychain.html, 24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arol L. Cook; ‘How Computers Have Simplified Accounting’; http://www.yale.edu/ynhti/curriculum/units/1989/7/89.07.06.x.html#e;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ww.accountingcoach.com ,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ww.myob.com,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30" name="Picture 4" descr="pirate63"/>
          <p:cNvPicPr/>
          <p:nvPr/>
        </p:nvPicPr>
        <p:blipFill>
          <a:blip r:embed="rId1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AICPA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1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1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rai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asy to get ac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nging the way people learn accoun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6" descr="AC1.png"/>
          <p:cNvPicPr/>
          <p:nvPr/>
        </p:nvPicPr>
        <p:blipFill>
          <a:blip r:embed="rId1"/>
          <a:stretch/>
        </p:blipFill>
        <p:spPr>
          <a:xfrm>
            <a:off x="642960" y="4643280"/>
            <a:ext cx="771516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3:50:56Z</dcterms:created>
  <dc:creator>Microsoft</dc:creator>
  <dc:description/>
  <dc:language>en-US</dc:language>
  <cp:lastModifiedBy>ict</cp:lastModifiedBy>
  <dcterms:modified xsi:type="dcterms:W3CDTF">2010-05-25T13:09:59Z</dcterms:modified>
  <cp:revision>46</cp:revision>
  <dc:subject/>
  <dc:title>Internet</dc:title>
</cp:coreProperties>
</file>